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ilabre fatimata" initials="pf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5-06-01T09:41:51.001000000" idx="1">
    <p:pos x="10" y="10"/>
    <p:text/>
  </p:cm>
  <p:cm authorId="0" dt="2015-06-01T09:48:16.910000000" idx="2">
    <p:pos x="10" y="106"/>
    <p:text>Je crois que nous avons mal placé ce dia. peut on ajouter méthodologie dans le titre du dia sinon il vient se placer au mielieu des dia méthodologie 1/2, 2/2  sans être titré métho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5452-9D11-42D7-ABC1-717A8E72B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’expérience du DS de Sebba qui est appuyée par Help et avec le soutien de l’Université de Montréal pour les aspects scientifiq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E857-09E3-442E-B3A1-04E357DB7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demande DS Dori de passer au F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Habitudes de prescriptions non changées (nombre moyen de molécules par ordonnance est de 2,5): parce que les contrôles ont été réalisés (médical et financi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D86E-B79F-4A12-9A75-196C1AFD6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aut : effet immédiat (à l’introduction de l’intervention « FFT ») ET Tendance : effet sur la période (durant la phase étudié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78C3-D6E4-40F9-9B04-683F4B6C8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89FD-C93C-4410-A296-F2EACF685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njeux sur le montant forfaitai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de de calcul :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acteur qui limite le risque financier des prestata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589E-86A2-4463-86F7-645694E74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16F0-9FE9-4141-A78D-43B83777C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FDFE-D310-4E8D-A32E-A3367506AC8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mption = équité dans l’accès, filet social (pas de dépenses des ménages en matière de santé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D95B-DCC0-4E29-B684-6658CC876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038F-0B19-4871-8E60-34472F909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54AB-B3D0-48A2-B16F-C2AD68FB2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E0E-C964-4C76-9DC3-32C9CF0A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514-6927-4BCF-8E76-469E5AFD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699-BF1A-4B9D-B6F7-4FF6739A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DF3-82D7-486D-8547-BD94773C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06E-F8DD-4477-A38B-D387E2AF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18C2-7009-4863-9D7C-9CE2B222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020-3F10-478C-83F1-D418582D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4A6F-6D79-4CA1-88E6-6EB9D163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8CE1-CEEE-4E52-8753-8B89E066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2680-9F21-4050-9DEF-A7009CA0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E25-BAE6-491D-9A6C-FC23C5B2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E1DC-267B-4877-9A68-91A0FB35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6B4B-0C6E-4ED3-BB42-D0935C55E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raph%20Enfants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056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L’ exemption du paiement des soins au forfait chez les enfants &lt;5ans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S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Atelier technique AMU « Panier de soins, coût et financement »</a:t>
            </a:r>
            <a:br>
              <a:rPr sz="2800"/>
            </a:br>
            <a:r>
              <a:rPr b="1" lang="fr-FR" sz="2400" spc="-1" strike="noStrike">
                <a:solidFill>
                  <a:srgbClr val="898989"/>
                </a:solidFill>
                <a:latin typeface="Calibri"/>
              </a:rPr>
              <a:t>Ouagadougou, les 9 et 10 juin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2" descr="logoHelpFr"/>
          <p:cNvPicPr/>
          <p:nvPr/>
        </p:nvPicPr>
        <p:blipFill>
          <a:blip r:embed="rId1"/>
          <a:srcRect l="2793" t="1343" r="3911" b="2686"/>
          <a:stretch/>
        </p:blipFill>
        <p:spPr>
          <a:xfrm>
            <a:off x="7620120" y="5410080"/>
            <a:ext cx="115416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1" descr="logo_fr_transp_black"/>
          <p:cNvPicPr/>
          <p:nvPr/>
        </p:nvPicPr>
        <p:blipFill>
          <a:blip r:embed="rId2"/>
          <a:stretch/>
        </p:blipFill>
        <p:spPr>
          <a:xfrm>
            <a:off x="7620120" y="380880"/>
            <a:ext cx="111744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drapeau:Burkina Faso"/>
          <p:cNvPicPr/>
          <p:nvPr/>
        </p:nvPicPr>
        <p:blipFill>
          <a:blip r:embed="rId3"/>
          <a:stretch/>
        </p:blipFill>
        <p:spPr>
          <a:xfrm>
            <a:off x="380880" y="380880"/>
            <a:ext cx="1190880" cy="784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paho\Desktop\Archives_Interim_20150523\RA FFT\Publications\Note Analyse démarche RA\MenP-G\Nvx_Logos_Mai2015\Logo_EQUITE_jpg-RVB_201505.jpg"/>
          <p:cNvPicPr/>
          <p:nvPr/>
        </p:nvPicPr>
        <p:blipFill>
          <a:blip r:embed="rId4"/>
          <a:stretch/>
        </p:blipFill>
        <p:spPr>
          <a:xfrm>
            <a:off x="3352680" y="5410080"/>
            <a:ext cx="2286000" cy="108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armoirie_BF"/>
          <p:cNvPicPr/>
          <p:nvPr/>
        </p:nvPicPr>
        <p:blipFill>
          <a:blip r:embed="rId5"/>
          <a:stretch/>
        </p:blipFill>
        <p:spPr>
          <a:xfrm>
            <a:off x="1136520" y="5297400"/>
            <a:ext cx="836640" cy="951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90720" y="6313320"/>
            <a:ext cx="11379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NISTERE DE LA SAN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ésultats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aisabilité du paiement au forfait est démontr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tinence du FFT pour l’ensemble des PP (adhésion des F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abitudes de prescriptions non chang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importante de la charge administ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des coûts de gestion de la subvention (suppor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tentiel de maitrise des coûts du paiement au F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1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6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20600" y="1314360"/>
            <a:ext cx="8858160" cy="538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700280" y="1314360"/>
            <a:ext cx="7304040" cy="957240"/>
          </a:xfrm>
          <a:prstGeom prst="rect">
            <a:avLst/>
          </a:prstGeom>
          <a:ln w="0">
            <a:noFill/>
          </a:ln>
        </p:spPr>
      </p:pic>
      <p:cxnSp>
        <p:nvCxnSpPr>
          <p:cNvPr id="93" name="Straight Arrow Connector 8"/>
          <p:cNvCxnSpPr/>
          <p:nvPr/>
        </p:nvCxnSpPr>
        <p:spPr>
          <a:xfrm>
            <a:off x="4723920" y="320004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94" name="TextBox 9"/>
          <p:cNvSpPr/>
          <p:nvPr/>
        </p:nvSpPr>
        <p:spPr>
          <a:xfrm>
            <a:off x="4724280" y="2830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Straight Arrow Connector 10"/>
          <p:cNvCxnSpPr/>
          <p:nvPr/>
        </p:nvCxnSpPr>
        <p:spPr>
          <a:xfrm>
            <a:off x="6019920" y="3200040"/>
            <a:ext cx="259128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96" name="TextBox 11"/>
          <p:cNvSpPr/>
          <p:nvPr/>
        </p:nvSpPr>
        <p:spPr>
          <a:xfrm>
            <a:off x="6095880" y="2895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(avec risque financi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2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7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6320" y="1271520"/>
            <a:ext cx="8915400" cy="540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1444680" y="1295280"/>
            <a:ext cx="7547040" cy="1014480"/>
          </a:xfrm>
          <a:prstGeom prst="rect">
            <a:avLst/>
          </a:prstGeom>
          <a:ln w="0">
            <a:noFill/>
          </a:ln>
        </p:spPr>
      </p:pic>
      <p:cxnSp>
        <p:nvCxnSpPr>
          <p:cNvPr id="100" name="Straight Arrow Connector 8"/>
          <p:cNvCxnSpPr/>
          <p:nvPr/>
        </p:nvCxnSpPr>
        <p:spPr>
          <a:xfrm>
            <a:off x="6095520" y="311256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101" name="TextBox 9"/>
          <p:cNvSpPr/>
          <p:nvPr/>
        </p:nvSpPr>
        <p:spPr>
          <a:xfrm>
            <a:off x="60958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Straight Arrow Connector 12"/>
          <p:cNvCxnSpPr/>
          <p:nvPr/>
        </p:nvCxnSpPr>
        <p:spPr>
          <a:xfrm>
            <a:off x="7467120" y="3112560"/>
            <a:ext cx="129636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13"/>
          <p:cNvSpPr/>
          <p:nvPr/>
        </p:nvSpPr>
        <p:spPr>
          <a:xfrm>
            <a:off x="74674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çons apprise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ation très import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Analyse descriptive des CMM (quelque soit le mode de finan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saisonnalité »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ariabilité intra/inter CSPS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différenciés de l’épidémie de rougeole de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ditions de réus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89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jeux sur le montant forfaitaire (son calcu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tionalité des prescriptions (pratiques des AS et disponibilité des ME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mbre d’hospitalisations (rationalis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servance des traitements (≠ revisi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dans les dél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 FFT vs REEL au regard de ses a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igueur dans le calcul du montant forfaitai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eille « raisonnable » des coûts réel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disponibilité, accessibilité et fiabilité des données, 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pless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actualisation du FFT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ctivité du contrôle et de la supervisio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inclus l’utilisation de ses résulta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er le partenari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s préfinancemen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l’exemption (pour éviter les retards de rembours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 de l’exe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exte – Jus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éthodologie de mise en œuvre du forfa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ult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çons ap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3640" y="928440"/>
            <a:ext cx="8391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ion du district sanitaire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210 8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publique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A: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PS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ensaires isolé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yon moyen 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: 12,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remplissant les normes  minimales en personnel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ésentation de l’exem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ébut: septembre 2008, DS de Dori et Seb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emption du paiement des enfants de moins de 5 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uverture améliorée donc taux d’utilisation a augmenté (de 0.6 contact/enfant/an à 3.5) entre 2008 et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aux de mortalité diminué de 17% entre 2008 et 2009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ompilation par mois des ordonnances (800 à 1200 par FS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emboursement du coût réel des prestations offertes par les FS sur la base d’une facture adressée au tiers payant via le D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texte - Jus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+++ (…) de la subvention des soin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ventualité d’un « passage à l’échelle » (PàE) de la « gratuité des soins » de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(PNPS, MS et AM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au réel complexe à l’échelle nationale ; expérimentation du paiement au « forfait (FFT)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périences des AA/SONU B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0320" y="1548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ircuit de remboursement et contrô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e 48"/>
          <p:cNvGrpSpPr/>
          <p:nvPr/>
        </p:nvGrpSpPr>
        <p:grpSpPr>
          <a:xfrm>
            <a:off x="380880" y="1295280"/>
            <a:ext cx="8454960" cy="4889160"/>
            <a:chOff x="380880" y="1295280"/>
            <a:chExt cx="8454960" cy="4889160"/>
          </a:xfrm>
        </p:grpSpPr>
        <p:sp>
          <p:nvSpPr>
            <p:cNvPr id="66" name="Rectangle 3"/>
            <p:cNvSpPr/>
            <p:nvPr/>
          </p:nvSpPr>
          <p:spPr>
            <a:xfrm>
              <a:off x="380880" y="1295280"/>
              <a:ext cx="1752480" cy="1265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Help ( tiers payant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6581880" y="1341000"/>
              <a:ext cx="1828800" cy="1279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District sanitai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 ECD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3394080" y="4808520"/>
              <a:ext cx="1981080" cy="1295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CSP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prestataire des soin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9" name="Connecteur droit avec flèche 7"/>
            <p:cNvCxnSpPr/>
            <p:nvPr/>
          </p:nvCxnSpPr>
          <p:spPr>
            <a:xfrm>
              <a:off x="2441160" y="1736280"/>
              <a:ext cx="38869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Connecteur droit avec flèche 8"/>
            <p:cNvCxnSpPr/>
            <p:nvPr/>
          </p:nvCxnSpPr>
          <p:spPr>
            <a:xfrm flipH="1">
              <a:off x="2459880" y="2449080"/>
              <a:ext cx="38487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Connecteur droit avec flèche 11"/>
            <p:cNvCxnSpPr>
              <a:endCxn id="67" idx="2"/>
            </p:cNvCxnSpPr>
            <p:nvPr/>
          </p:nvCxnSpPr>
          <p:spPr>
            <a:xfrm flipV="1">
              <a:off x="5329080" y="2620440"/>
              <a:ext cx="2167560" cy="243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Connecteur droit avec flèche 12"/>
            <p:cNvCxnSpPr/>
            <p:nvPr/>
          </p:nvCxnSpPr>
          <p:spPr>
            <a:xfrm>
              <a:off x="585000" y="2544120"/>
              <a:ext cx="2809080" cy="2667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" name="ZoneTexte 19"/>
            <p:cNvSpPr/>
            <p:nvPr/>
          </p:nvSpPr>
          <p:spPr>
            <a:xfrm>
              <a:off x="2603160" y="13510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inanc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ZoneTexte 21"/>
            <p:cNvSpPr/>
            <p:nvPr/>
          </p:nvSpPr>
          <p:spPr>
            <a:xfrm rot="2580000">
              <a:off x="419400" y="3892680"/>
              <a:ext cx="27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trat De Prest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ZoneTexte 25"/>
            <p:cNvSpPr/>
            <p:nvPr/>
          </p:nvSpPr>
          <p:spPr>
            <a:xfrm>
              <a:off x="3645000" y="173736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ui Techniqu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ZoneTexte 26"/>
            <p:cNvSpPr/>
            <p:nvPr/>
          </p:nvSpPr>
          <p:spPr>
            <a:xfrm>
              <a:off x="3020040" y="2448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ièces Justificativ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7" name="Connecteur droit avec flèche 27"/>
            <p:cNvCxnSpPr/>
            <p:nvPr/>
          </p:nvCxnSpPr>
          <p:spPr>
            <a:xfrm flipH="1">
              <a:off x="5374800" y="2728800"/>
              <a:ext cx="2807280" cy="3207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" name="ZoneTexte 37"/>
            <p:cNvSpPr/>
            <p:nvPr/>
          </p:nvSpPr>
          <p:spPr>
            <a:xfrm rot="18840000">
              <a:off x="5422320" y="393732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actu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ZoneTexte 42"/>
            <p:cNvSpPr/>
            <p:nvPr/>
          </p:nvSpPr>
          <p:spPr>
            <a:xfrm rot="18720000">
              <a:off x="5026680" y="4058280"/>
              <a:ext cx="427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rovisionnement des comptes après contrôle, suivi/ Supervis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ZoneTexte 21"/>
          <p:cNvSpPr/>
          <p:nvPr/>
        </p:nvSpPr>
        <p:spPr>
          <a:xfrm rot="2580000">
            <a:off x="680760" y="3508200"/>
            <a:ext cx="30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rôle conjoint ECD + Hel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6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1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marche de la RA/forfa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eliers d’échanges et de réflexion avec les parties prenan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lcul du montant forfaitaire : moyenne arrondie des coûts réels de 6 CSPS sur 30 mois (Jan09-Juin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roduction progressive ( avec et sans risque financier): 2 groupes de CS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136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2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72880"/>
            <a:ext cx="822960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nature de convention entre le tiers payant et les prestataires ( ICP + CO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ptabilisation à partir des registres de consultation/ cahiers de vente journal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iement mensuel par le tiers pay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inuation des contrôles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oste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ux niveaux CSPS et communau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ncontres de suiv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mposition du montant forfait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Diagramme 16" descr=""/>
          <p:cNvPicPr/>
          <p:nvPr/>
        </p:nvPicPr>
        <p:blipFill>
          <a:blip r:embed="rId1"/>
          <a:stretch/>
        </p:blipFill>
        <p:spPr>
          <a:xfrm>
            <a:off x="212760" y="1127160"/>
            <a:ext cx="8493120" cy="5445000"/>
          </a:xfrm>
          <a:prstGeom prst="rect">
            <a:avLst/>
          </a:prstGeom>
          <a:ln w="0">
            <a:noFill/>
          </a:ln>
        </p:spPr>
      </p:pic>
      <p:sp>
        <p:nvSpPr>
          <p:cNvPr id="87" name="Explosion 2 3"/>
          <p:cNvSpPr/>
          <p:nvPr/>
        </p:nvSpPr>
        <p:spPr>
          <a:xfrm>
            <a:off x="5791320" y="1219320"/>
            <a:ext cx="3352680" cy="2057400"/>
          </a:xfrm>
          <a:prstGeom prst="irregularSeal2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outes les path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4T22:10:59Z</dcterms:created>
  <dc:creator>paho</dc:creator>
  <dc:description/>
  <dc:language>en-US</dc:language>
  <cp:lastModifiedBy>KABORE</cp:lastModifiedBy>
  <dcterms:modified xsi:type="dcterms:W3CDTF">2015-06-08T18:19:27Z</dcterms:modified>
  <cp:revision>126</cp:revision>
  <dc:subject/>
  <dc:title>PowerPoint Presentation</dc:title>
</cp:coreProperties>
</file>